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488-07CF-4EAB-B8D3-D9685727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381-CF26-4E09-B7F8-6A8178E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EE9-5932-47A6-9559-A8DD0B3F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685-762D-4700-908D-0E193ED9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489-5B4E-422E-8414-C320956A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4B6-CAF3-4289-A0F7-D0B76A21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6E8-31A0-43F1-9832-BA05D9C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549-6B14-4F12-A9AF-FF585559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150-C08E-46F8-BBD8-FFE3DBD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0D0-90F4-411C-842E-1AAB9F2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B15-E0C0-4DEF-9244-E4897FB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DB2-3F10-4751-90A9-FB073F5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5E4-5164-4DBD-83F6-83C57117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Iwo Jima</a:t>
            </a:r>
            <a:br>
              <a:rPr sz="4800"/>
            </a:br>
            <a:r>
              <a:rPr b="0" lang="en-US" sz="1600" spc="-1" strike="noStrike">
                <a:solidFill>
                  <a:srgbClr val="ff5050"/>
                </a:solidFill>
                <a:latin typeface="Arial"/>
              </a:rPr>
              <a:t>(16 February 1939–17 March 19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By: Kimberly Go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93000">
            <a:off x="609480" y="457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0820000">
            <a:off x="914400" y="2437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journeyamerica.files.wordpress.com/2008/07/iwo-jima-picture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Agai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U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659400">
            <a:off x="6172200" y="1523520"/>
            <a:ext cx="235728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900400">
            <a:off x="837720" y="419112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3276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652800">
            <a:off x="5943240" y="26665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govdocs.evergreen.edu/hotopics/asian-pacifichistory/flags/usa.p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837400">
            <a:off x="993600" y="57564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evansvillefolkdancers.com/sitebuildercontent/sitebuilderpictures/FlagJapan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wo Jima is a Japanes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ight-square-mile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ocket launc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20 large mort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wit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arger than 75 mm </a:t>
            </a:r>
            <a:br>
              <a:rPr sz="3200"/>
            </a:b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57680" cy="194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45720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96252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tri.army.mil/lc/CS/csa/m260m2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Battle cost the United States 4,590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ounded 24,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More than 20,000 Japanese were ki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,083 Japanese capt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Heinl, Robert Debs, Jr. "Iwo Jima."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</a:rPr>
              <a:t>Dictionary of American History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. Ed. Stanley I. Kutler. Vol. 4. 3rd ed. New York: Charles Scribner's Sons, 2003. 450-451.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</a:rPr>
              <a:t>Gale Virtual Reference Library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. Gale. High School. 4 Dec. 2009 &lt;http://go.galegroup.com/ps/start.do?p=GVRL&amp;u=s0003&gt;.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Wawro, Geoffrey. "Iwo Jima, Battle of." </a:t>
            </a:r>
            <a:r>
              <a:rPr b="0" i="1" lang="en-US" sz="1000" spc="-1" strike="noStrike">
                <a:solidFill>
                  <a:srgbClr val="ff5050"/>
                </a:solidFill>
                <a:latin typeface="Arial"/>
              </a:rPr>
              <a:t>World Book Student.</a:t>
            </a: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 World Book, 2009. Web. 4 Dec. 2009. </a:t>
            </a:r>
            <a:br>
              <a:rPr sz="1000"/>
            </a:b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49:21Z</dcterms:created>
  <dc:creator>12208</dc:creator>
  <dc:description/>
  <dc:language>en-US</dc:language>
  <cp:lastModifiedBy>12208</cp:lastModifiedBy>
  <dcterms:modified xsi:type="dcterms:W3CDTF">2009-12-14T19:07:35Z</dcterms:modified>
  <cp:revision>5</cp:revision>
  <dc:subject/>
  <dc:title>Iwo Jima (16 February–17 March 1945)</dc:title>
</cp:coreProperties>
</file>